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18.png" ContentType="image/png"/>
  <Override PartName="/ppt/media/type.wav" ContentType="audio/x-wav"/>
  <Override PartName="/ppt/media/image6.jpeg" ContentType="image/jpeg"/>
  <Override PartName="/ppt/media/image17.jpeg" ContentType="image/jpeg"/>
  <Override PartName="/ppt/media/carbrake.wav" ContentType="audio/x-wav"/>
  <Override PartName="/ppt/media/image14.png" ContentType="image/png"/>
  <Override PartName="/ppt/media/image10.jpeg" ContentType="image/jpeg"/>
  <Override PartName="/ppt/media/whoosh.wav" ContentType="audio/x-wav"/>
  <Override PartName="/ppt/media/image3.jpeg" ContentType="image/jpeg"/>
  <Override PartName="/ppt/media/image30.jpeg" ContentType="image/jpeg"/>
  <Override PartName="/ppt/media/image15.png" ContentType="image/png"/>
  <Override PartName="/ppt/media/image22.gif" ContentType="image/gif"/>
  <Override PartName="/ppt/media/image31.jpeg" ContentType="image/jpeg"/>
  <Override PartName="/ppt/media/image2.png" ContentType="image/png"/>
  <Override PartName="/ppt/media/camera.wav" ContentType="audio/x-wav"/>
  <Override PartName="/ppt/media/applause.wav" ContentType="audio/x-wav"/>
  <Override PartName="/ppt/media/image27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cashreg.wav" ContentType="audio/x-wav"/>
  <Override PartName="/ppt/media/hammer.wav" ContentType="audio/x-wav"/>
  <Override PartName="/ppt/media/image12.jpeg" ContentType="image/jpeg"/>
  <Override PartName="/ppt/media/image28.gif" ContentType="image/gif"/>
  <Override PartName="/ppt/media/image8.png" ContentType="image/png"/>
  <Override PartName="/ppt/media/image23.png" ContentType="image/png"/>
  <Override PartName="/ppt/media/push.wav" ContentType="audio/x-wav"/>
  <Override PartName="/ppt/media/drumroll.wav" ContentType="audio/x-wav"/>
  <Override PartName="/ppt/media/image4.gif" ContentType="image/gif"/>
  <Override PartName="/ppt/media/image13.gif" ContentType="image/gif"/>
  <Override PartName="/ppt/media/image16.png" ContentType="image/png"/>
  <Override PartName="/ppt/media/laser.wav" ContentType="audio/x-wav"/>
  <Override PartName="/ppt/media/image11.jpeg" ContentType="image/jpeg"/>
  <Override PartName="/ppt/media/image1.gif" ContentType="image/gif"/>
  <Override PartName="/ppt/media/image24.jpeg" ContentType="image/jpeg"/>
  <Override PartName="/ppt/media/projctor.wav" ContentType="audio/x-wav"/>
  <Override PartName="/ppt/media/coin.wav" ContentType="audio/x-wav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DC3-25CD-40A5-A6D2-6B803C17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8EB-4CCD-4201-8095-B856ABAF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694-F4ED-4909-831F-68402A4D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5E2-1157-45E9-B4AC-2BD666A6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C365-FA09-4834-BB66-3ACFD8C5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901F-A8D1-42F3-9AD1-2CEEB36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2B81-DE44-46CD-9E5D-1F4DC537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F44-53E5-475E-81B0-31F0DF59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5A70-0C2E-4980-93CD-D01F12B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3480-2B49-4869-A6A8-68E2E53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B85-21C5-48D1-ACD9-829B8721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65D-41A3-40C7-A307-8904184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65FE-AF0C-4AEB-9140-8EF03BE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B3FB-7059-4481-AEC7-B9D866D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A060-B41E-4953-B74C-C6CD24CC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3F8-DF03-43FA-BB7A-68E16EB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6B2-B10A-4C69-AF1C-932F5EA6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928-C6A6-4EE6-8D23-E4EFBE3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ADA-A90D-4B67-AAC7-8452F3B1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FDE-9D2D-4090-B575-9488833E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E4B-2E66-4F0E-842E-5C7F9695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4BA-0ED2-40EB-9916-26F5F1E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599-57CB-4815-9A30-27465D2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E3A-D52A-4AE6-ACF6-AAE69FD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12AB-7E75-4D17-A94E-C31FE59B730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870F-B24E-44AC-9D21-7E52E5BF619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image" Target="../media/image18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1.xml"/><Relationship Id="rId6" Type="http://schemas.openxmlformats.org/officeDocument/2006/relationships/image" Target="../media/image22.gif"/><Relationship Id="rId7" Type="http://schemas.openxmlformats.org/officeDocument/2006/relationships/slide" Target="slide1.xml"/><Relationship Id="rId8" Type="http://schemas.openxmlformats.org/officeDocument/2006/relationships/image" Target="../media/image22.gif"/><Relationship Id="rId9" Type="http://schemas.openxmlformats.org/officeDocument/2006/relationships/slide" Target="slide1.xml"/><Relationship Id="rId10" Type="http://schemas.openxmlformats.org/officeDocument/2006/relationships/image" Target="../media/image22.gif"/><Relationship Id="rId11" Type="http://schemas.openxmlformats.org/officeDocument/2006/relationships/slide" Target="slide1.xml"/><Relationship Id="rId12" Type="http://schemas.openxmlformats.org/officeDocument/2006/relationships/image" Target="../media/image22.gif"/><Relationship Id="rId13" Type="http://schemas.openxmlformats.org/officeDocument/2006/relationships/slide" Target="slide1.xml"/><Relationship Id="rId14" Type="http://schemas.openxmlformats.org/officeDocument/2006/relationships/image" Target="../media/image22.gif"/><Relationship Id="rId15" Type="http://schemas.openxmlformats.org/officeDocument/2006/relationships/slide" Target="slide21.xml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9.png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image" Target="../media/image7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slide" Target="slide15.xml"/><Relationship Id="rId10" Type="http://schemas.openxmlformats.org/officeDocument/2006/relationships/image" Target="../media/image11.jpe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audio" Target="../media/hammer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type.wav"/><Relationship Id="rId7" Type="http://schemas.openxmlformats.org/officeDocument/2006/relationships/audio" Target="../media/hammer.wav"/><Relationship Id="rId8" Type="http://schemas.openxmlformats.org/officeDocument/2006/relationships/audio" Target="../media/type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laser.wav"/><Relationship Id="rId10" Type="http://schemas.openxmlformats.org/officeDocument/2006/relationships/audio" Target="../media/carbrak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carbrak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laser.wav"/><Relationship Id="rId19" Type="http://schemas.openxmlformats.org/officeDocument/2006/relationships/audio" Target="../media/type.wav"/><Relationship Id="rId20" Type="http://schemas.openxmlformats.org/officeDocument/2006/relationships/audio" Target="../media/laser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carbrake.wav"/><Relationship Id="rId9" Type="http://schemas.openxmlformats.org/officeDocument/2006/relationships/audio" Target="../media/laser.wav"/><Relationship Id="rId10" Type="http://schemas.openxmlformats.org/officeDocument/2006/relationships/audio" Target="../media/carbrake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image" Target="../media/image7.gif"/><Relationship Id="rId6" Type="http://schemas.openxmlformats.org/officeDocument/2006/relationships/slide" Target="slide7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audio" Target="../media/hammer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981000"/>
            <a:ext cx="720720" cy="7207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4508640"/>
            <a:ext cx="647640" cy="647640"/>
          </a:xfrm>
          <a:custGeom>
            <a:avLst/>
            <a:gdLst>
              <a:gd name="textAreaLeft" fmla="*/ 266760 w 647640"/>
              <a:gd name="textAreaRight" fmla="*/ 380880 w 647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2637000"/>
            <a:ext cx="509760" cy="509400"/>
          </a:xfrm>
          <a:custGeom>
            <a:avLst/>
            <a:gdLst>
              <a:gd name="textAreaLeft" fmla="*/ 209880 w 509760"/>
              <a:gd name="textAreaRight" fmla="*/ 299880 w 509760"/>
              <a:gd name="textAreaTop" fmla="*/ 209880 h 509400"/>
              <a:gd name="textAreaBottom" fmla="*/ 299520 h 50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3860640"/>
            <a:ext cx="720720" cy="7207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292428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836640"/>
            <a:ext cx="582480" cy="582480"/>
          </a:xfrm>
          <a:custGeom>
            <a:avLst/>
            <a:gdLst>
              <a:gd name="textAreaLeft" fmla="*/ 240120 w 582480"/>
              <a:gd name="textAreaRight" fmla="*/ 342360 w 582480"/>
              <a:gd name="textAreaTop" fmla="*/ 240120 h 582480"/>
              <a:gd name="textAreaBottom" fmla="*/ 342360 h 58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333360"/>
            <a:ext cx="738360" cy="738360"/>
          </a:xfrm>
          <a:custGeom>
            <a:avLst/>
            <a:gdLst>
              <a:gd name="textAreaLeft" fmla="*/ 304200 w 738360"/>
              <a:gd name="textAreaRight" fmla="*/ 434160 w 738360"/>
              <a:gd name="textAreaTop" fmla="*/ 304200 h 738360"/>
              <a:gd name="textAreaBottom" fmla="*/ 434160 h 73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718920" cy="719280"/>
          </a:xfrm>
          <a:custGeom>
            <a:avLst/>
            <a:gdLst>
              <a:gd name="textAreaLeft" fmla="*/ 296280 w 718920"/>
              <a:gd name="textAreaRight" fmla="*/ 422640 w 71892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112536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隶书"/>
                <a:ea typeface="隶书"/>
              </a:rPr>
              <a:t>圆 的 周 长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89720" y="0"/>
            <a:ext cx="520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同学们分组用事先准备好的直尺，细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量手中圆的周长和直径，并求出周长和直径的比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（得数保留两位小数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填出下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87280" y="1341360"/>
          <a:ext cx="7010640" cy="3168720"/>
        </p:xfrm>
        <a:graphic>
          <a:graphicData uri="http://schemas.openxmlformats.org/drawingml/2006/table">
            <a:tbl>
              <a:tblPr/>
              <a:tblGrid>
                <a:gridCol w="1692360"/>
                <a:gridCol w="1728720"/>
                <a:gridCol w="1814760"/>
                <a:gridCol w="17748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项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厘米</a:t>
                      </a: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厘米</a:t>
                      </a: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比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元硬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d=2</a:t>
                      </a: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厘米的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  <a:ea typeface="幼圆"/>
                        </a:rPr>
                        <a:t>d=3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厘米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  <a:ea typeface="幼圆"/>
                        </a:rPr>
                        <a:t>的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69960" y="4440240"/>
            <a:ext cx="7483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通过实验可以知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的周长总是它直径的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3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倍多一些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是一个固定的数。我们把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圆的周长和它直径的比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叫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圆周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用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ài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3288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344080" y="6165720"/>
            <a:ext cx="403200" cy="500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48784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656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132000" y="1818000"/>
            <a:ext cx="4751280" cy="1626840"/>
            <a:chOff x="3132000" y="1818000"/>
            <a:chExt cx="4751280" cy="1626840"/>
          </a:xfrm>
        </p:grpSpPr>
        <p:sp>
          <p:nvSpPr>
            <p:cNvPr id="293" name=""/>
            <p:cNvSpPr/>
            <p:nvPr/>
          </p:nvSpPr>
          <p:spPr>
            <a:xfrm>
              <a:off x="3132000" y="1818000"/>
              <a:ext cx="9349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7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2000" y="2121840"/>
              <a:ext cx="9367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88000" y="1818000"/>
              <a:ext cx="1295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3.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8000" y="2991960"/>
            <a:ext cx="4608720" cy="653040"/>
            <a:chOff x="3348000" y="2991960"/>
            <a:chExt cx="4608720" cy="653040"/>
          </a:xfrm>
        </p:grpSpPr>
        <p:sp>
          <p:nvSpPr>
            <p:cNvPr id="297" name=""/>
            <p:cNvSpPr/>
            <p:nvPr/>
          </p:nvSpPr>
          <p:spPr>
            <a:xfrm>
              <a:off x="5459400" y="3063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32720" y="29919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3.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48000" y="30636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6.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348000" y="3711240"/>
            <a:ext cx="4392720" cy="657720"/>
            <a:chOff x="3348000" y="3711240"/>
            <a:chExt cx="4392720" cy="657720"/>
          </a:xfrm>
        </p:grpSpPr>
        <p:sp>
          <p:nvSpPr>
            <p:cNvPr id="301" name=""/>
            <p:cNvSpPr/>
            <p:nvPr/>
          </p:nvSpPr>
          <p:spPr>
            <a:xfrm>
              <a:off x="6732720" y="37112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3.1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3348000" y="3714480"/>
              <a:ext cx="2517840" cy="654480"/>
              <a:chOff x="3348000" y="3714480"/>
              <a:chExt cx="2517840" cy="654480"/>
            </a:xfrm>
          </p:grpSpPr>
          <p:sp>
            <p:nvSpPr>
              <p:cNvPr id="303" name=""/>
              <p:cNvSpPr/>
              <p:nvPr/>
            </p:nvSpPr>
            <p:spPr>
              <a:xfrm>
                <a:off x="5459400" y="37875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48000" y="3714480"/>
                <a:ext cx="151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Arial"/>
                  </a:rPr>
                  <a:t>9.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5280" cy="20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你 知 道 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54936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的古代数学著作《周髀算经》中就有“周三径一”的说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是说圆的周长是直径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82000" y="574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77320" y="35812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315280" y="6165720"/>
            <a:ext cx="360360" cy="436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26920" y="4012560"/>
            <a:ext cx="7704360" cy="18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，中国有一位伟大的数学家和天文学家祖冲之。他计算出圆周率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·14159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·14159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，成为世界上第一个把圆周率的值的计算精确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小数的人。他这项伟大成就比国外数学家得出这样精确数值的时间，至少要早一千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周率到底等于多少。后来数家们逐渐发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圆周率是一个无限不循环的小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现在人们已经能用计算机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后面上亿位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π=3·141592653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是，在实际应用中并不需要么多位小数。我们     在计算时，一般只取它的近似值。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π ≈3·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13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411280" y="0"/>
            <a:ext cx="6732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Comic Sans MS"/>
                <a:ea typeface="黑体"/>
              </a:rPr>
              <a:t>谐音故事：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古时候，有位教学先生，他特别喜欢喝酒。一天，他向他的弟子讲解到圆的周长的时候，突然想到了喝酒，就对自己的弟子说，你们把圆周率给背熟，会被的就上后山顶的那座亭子里找我。后来，一弟子熟背后，跑上山，竟然看到教学先生偷偷在后山顶的亭里喝酒，他突然灵感一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.1415926535897932384626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山巅一寺一壶酒（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3.14159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尔乐苦煞吾（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26535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把酒吃（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897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酒杀尔（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932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杀不死（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384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乐尔乐（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626</a:t>
            </a:r>
            <a:r>
              <a:rPr b="1" lang="zh-CN" sz="41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380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周率是一个无限小数。但是，在实际应用中并不需要这么多位小数。我们在计算时，一般只取它的近似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л≈3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406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用一个关系式来表示周长和直径的关系呢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30924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周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的周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3854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的周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周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4540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=л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26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=2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52261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=2л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62120" y="2635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一张圆桌面的直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9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。这张圆桌面的周长是多少米？（得数保留两位小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3429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  =  л     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3962520"/>
            <a:ext cx="914400" cy="685800"/>
            <a:chOff x="3657600" y="3962520"/>
            <a:chExt cx="914400" cy="685800"/>
          </a:xfrm>
        </p:grpSpPr>
        <p:sp>
          <p:nvSpPr>
            <p:cNvPr id="326" name=""/>
            <p:cNvSpPr/>
            <p:nvPr/>
          </p:nvSpPr>
          <p:spPr>
            <a:xfrm>
              <a:off x="3657600" y="3962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3962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743200" y="4573440"/>
            <a:ext cx="3276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4×0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2.9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62024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这张圆桌面的周长约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9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什么叫做圆的周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1143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的周长和什么有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828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计算圆的周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围成圆的曲线的长叫做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圆的周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114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和直径有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1752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=л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1766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=2л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4360" y="479124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942160" y="3981600"/>
            <a:ext cx="2190600" cy="1247760"/>
            <a:chOff x="5942160" y="3981600"/>
            <a:chExt cx="2190600" cy="1247760"/>
          </a:xfrm>
        </p:grpSpPr>
        <p:sp>
          <p:nvSpPr>
            <p:cNvPr id="339" name=""/>
            <p:cNvSpPr/>
            <p:nvPr/>
          </p:nvSpPr>
          <p:spPr>
            <a:xfrm flipH="1">
              <a:off x="6368760" y="4365720"/>
              <a:ext cx="1152360" cy="86364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99160" y="4351680"/>
              <a:ext cx="1152720" cy="86364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2160" y="3981600"/>
              <a:ext cx="2190600" cy="48420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0680" y="4999320"/>
              <a:ext cx="792360" cy="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923080" y="3965400"/>
            <a:ext cx="2193840" cy="519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04120" y="41504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·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0360" y="4221000"/>
            <a:ext cx="2160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59280" y="4437000"/>
            <a:ext cx="57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这根分针的尖端转动一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走的路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8.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11316" t="0" r="45830" b="16433"/>
          <a:stretch/>
        </p:blipFill>
        <p:spPr>
          <a:xfrm>
            <a:off x="0" y="333360"/>
            <a:ext cx="3059280" cy="4332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252400" y="549360"/>
            <a:ext cx="22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饭店的门口竖着一个大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分针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。这根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针的尖端转动一周所走的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程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63640" y="333360"/>
            <a:ext cx="2016000" cy="990360"/>
            <a:chOff x="1763640" y="333360"/>
            <a:chExt cx="2016000" cy="990360"/>
          </a:xfrm>
        </p:grpSpPr>
        <p:sp>
          <p:nvSpPr>
            <p:cNvPr id="350" name=""/>
            <p:cNvSpPr/>
            <p:nvPr/>
          </p:nvSpPr>
          <p:spPr>
            <a:xfrm>
              <a:off x="1763640" y="333360"/>
              <a:ext cx="2016000" cy="9903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55160" y="441720"/>
              <a:ext cx="16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694160" y="245952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44720"/>
            <a:ext cx="352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×3.14×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.28×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188.4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animMotion origin="layout" path="M 0.02049 -0.00856 C 0.01424 0.04352 -0.02743 0.07708 -0.06771 0.06829 C -0.11094 0.06204 -0.14166 0.00856 -0.13316 -0.04097 C -0.12725 -0.0919 -0.08767 -0.12616 -0.04583 -0.1169 C -0.00347 -0.10718 0.02622 -0.05833 0.02049 -0.00856 Z">
                                      <p:cBhvr>
                                        <p:cTn id="72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2230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692360" y="1125360"/>
            <a:ext cx="6048360" cy="4302000"/>
            <a:chOff x="1692360" y="1125360"/>
            <a:chExt cx="6048360" cy="4302000"/>
          </a:xfrm>
        </p:grpSpPr>
        <p:sp>
          <p:nvSpPr>
            <p:cNvPr id="356" name="">
              <a:hlinkClick r:id="rId1" action="ppaction://hlinksldjump"/>
            </p:cNvPr>
            <p:cNvSpPr/>
            <p:nvPr/>
          </p:nvSpPr>
          <p:spPr>
            <a:xfrm>
              <a:off x="2700360" y="13413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一、判断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>
              <a:hlinkClick r:id="rId2" action="ppaction://hlinksldjump"/>
            </p:cNvPr>
            <p:cNvSpPr/>
            <p:nvPr/>
          </p:nvSpPr>
          <p:spPr>
            <a:xfrm>
              <a:off x="2989440" y="2133360"/>
              <a:ext cx="338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二、选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>
              <a:hlinkClick r:id="rId3" action="ppaction://hlinksldjump"/>
            </p:cNvPr>
            <p:cNvSpPr/>
            <p:nvPr/>
          </p:nvSpPr>
          <p:spPr>
            <a:xfrm>
              <a:off x="3349800" y="2852640"/>
              <a:ext cx="359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三、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应用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A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牛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>
              <a:hlinkClick r:id="rId4" action="ppaction://hlinksldjump"/>
            </p:cNvPr>
            <p:cNvSpPr/>
            <p:nvPr/>
          </p:nvSpPr>
          <p:spPr>
            <a:xfrm>
              <a:off x="3781440" y="371772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四、应用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B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—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半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692360" y="112536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136960" y="1989000"/>
              <a:ext cx="99036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586240" y="285876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022560" y="364464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409920" y="4437000"/>
              <a:ext cx="9907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>
              <a:hlinkClick r:id="rId15" action="ppaction://hlinksldjump"/>
            </p:cNvPr>
            <p:cNvSpPr/>
            <p:nvPr/>
          </p:nvSpPr>
          <p:spPr>
            <a:xfrm>
              <a:off x="4068720" y="4509720"/>
              <a:ext cx="36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五、应用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C 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—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路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11280" y="1413000"/>
            <a:ext cx="647640" cy="2430360"/>
            <a:chOff x="611280" y="1413000"/>
            <a:chExt cx="647640" cy="2430360"/>
          </a:xfrm>
        </p:grpSpPr>
        <p:grpSp>
          <p:nvGrpSpPr>
            <p:cNvPr id="367" name=""/>
            <p:cNvGrpSpPr/>
            <p:nvPr/>
          </p:nvGrpSpPr>
          <p:grpSpPr>
            <a:xfrm>
              <a:off x="611280" y="1413000"/>
              <a:ext cx="647640" cy="1854000"/>
              <a:chOff x="611280" y="1413000"/>
              <a:chExt cx="647640" cy="1854000"/>
            </a:xfrm>
          </p:grpSpPr>
          <p:sp>
            <p:nvSpPr>
              <p:cNvPr id="368" name=""/>
              <p:cNvSpPr/>
              <p:nvPr/>
            </p:nvSpPr>
            <p:spPr>
              <a:xfrm>
                <a:off x="611280" y="141300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巩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280" y="256356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练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5320" y="198720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固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2600" y="3139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习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heel spokes="1"/>
    <p:sndAc>
      <p:stSnd>
        <p:snd r:embed="rId16" name="chimes.wav"/>
      </p:stSnd>
    </p:sndAc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bcdb"/>
            </a:gs>
            <a:gs pos="50000">
              <a:srgbClr val="ffffff"/>
            </a:gs>
            <a:gs pos="100000">
              <a:srgbClr val="dcb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613640" y="221004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13640" y="319428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31280" y="400860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16880" y="480096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57720" y="39319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40720" y="47955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56560" y="225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64560" y="318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773360"/>
            <a:ext cx="82072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判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：圆越大圆周率越大，圆越小圆周率越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２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π=3.14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半径的长短决定圆周长的大小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同圆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周长是直径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……………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826920" y="2647080"/>
            <a:ext cx="62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413000"/>
            <a:ext cx="3353040" cy="5205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99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、选择填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4791240"/>
            <a:ext cx="82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2708280"/>
            <a:ext cx="815328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车轮滚动一周，前进的距离是求车轮的（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径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径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圆的周长是直径的（ ）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  3.14       B.  π         C.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大圆的周长除以直径的商（ ）小圆的周长除以直径的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于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于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2688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43640" y="2651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64000" y="35719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4291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748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29520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圆形牛栏的半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 要用多长的粗铁丝才能把牛 栏围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圈？</a:t>
            </a:r>
            <a:r>
              <a:rPr b="1" lang="zh-CN" sz="2800" spc="-1" strike="noStrike">
                <a:solidFill>
                  <a:srgbClr val="2548f9"/>
                </a:solidFill>
                <a:latin typeface="Times New Roman"/>
              </a:rPr>
              <a:t>（接头处忽略不计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1773360"/>
            <a:ext cx="33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×3·14×1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×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6·28×1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×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75·3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×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226·0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20840" y="4724280"/>
            <a:ext cx="44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要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6·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长的粗铁丝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牛 栏围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grayscl/>
            <a:lum contrast="8000"/>
            <a:alphaModFix amt="73000"/>
          </a:blip>
          <a:srcRect l="0" t="0" r="0" b="9107"/>
          <a:stretch/>
        </p:blipFill>
        <p:spPr>
          <a:xfrm>
            <a:off x="4932360" y="1700280"/>
            <a:ext cx="3759120" cy="2592360"/>
          </a:xfrm>
          <a:prstGeom prst="rect">
            <a:avLst/>
          </a:prstGeom>
          <a:ln w="12600">
            <a:solidFill>
              <a:srgbClr val="ccffcc"/>
            </a:solidFill>
            <a:miter/>
          </a:ln>
        </p:spPr>
      </p:pic>
      <p:sp>
        <p:nvSpPr>
          <p:cNvPr id="396" name=""/>
          <p:cNvSpPr/>
          <p:nvPr/>
        </p:nvSpPr>
        <p:spPr>
          <a:xfrm rot="183000">
            <a:off x="5293800" y="2349360"/>
            <a:ext cx="2981520" cy="1441440"/>
          </a:xfrm>
          <a:prstGeom prst="ellipse">
            <a:avLst/>
          </a:prstGeom>
          <a:gradFill rotWithShape="0">
            <a:gsLst>
              <a:gs pos="0">
                <a:srgbClr val="ccffcc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220000"/>
          </a:gra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3000">
            <a:off x="5292360" y="2276640"/>
            <a:ext cx="2952720" cy="1441440"/>
          </a:xfrm>
          <a:prstGeom prst="ellipse">
            <a:avLst/>
          </a:prstGeom>
          <a:gradFill rotWithShape="0">
            <a:gsLst>
              <a:gs pos="0">
                <a:srgbClr val="ccffcc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220000"/>
          </a:gra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8172360" y="1916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rot="196200">
            <a:off x="5292720" y="2204640"/>
            <a:ext cx="2951280" cy="1365120"/>
          </a:xfrm>
          <a:prstGeom prst="ellipse">
            <a:avLst/>
          </a:prstGeom>
          <a:gradFill rotWithShape="0">
            <a:gsLst>
              <a:gs pos="0">
                <a:srgbClr val="ccffcc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202000"/>
          </a:gradFill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  <p:sndAc>
      <p:stSnd>
        <p:snd r:embed="rId3" name="chimes.wav"/>
      </p:stSnd>
    </p:sndAc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6" dur="8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1" dur="8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5" dur="1070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752480" y="228600"/>
            <a:ext cx="4647960" cy="838080"/>
            <a:chOff x="1752480" y="228600"/>
            <a:chExt cx="4647960" cy="83808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1752480" y="228600"/>
              <a:ext cx="46479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002680" y="380880"/>
              <a:ext cx="4170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b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什么是圆的周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752480" y="1371600"/>
            <a:ext cx="4876560" cy="838080"/>
            <a:chOff x="1752480" y="1371600"/>
            <a:chExt cx="4876560" cy="838080"/>
          </a:xfrm>
        </p:grpSpPr>
        <p:pic>
          <p:nvPicPr>
            <p:cNvPr id="165" name="" descr=""/>
            <p:cNvPicPr/>
            <p:nvPr/>
          </p:nvPicPr>
          <p:blipFill>
            <a:blip r:embed="rId2">
              <a:lum bright="24000"/>
            </a:blip>
            <a:stretch/>
          </p:blipFill>
          <p:spPr>
            <a:xfrm>
              <a:off x="1752480" y="1371600"/>
              <a:ext cx="4724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904760" y="1523880"/>
              <a:ext cx="47242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b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周长的测量方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28800" y="2514600"/>
            <a:ext cx="5257800" cy="838080"/>
            <a:chOff x="1828800" y="2514600"/>
            <a:chExt cx="5257800" cy="838080"/>
          </a:xfrm>
        </p:grpSpPr>
        <p:pic>
          <p:nvPicPr>
            <p:cNvPr id="168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1828800" y="2514600"/>
              <a:ext cx="4724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981080" y="2666880"/>
              <a:ext cx="51055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b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周长与直径的关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28800" y="3733920"/>
            <a:ext cx="4724280" cy="838080"/>
            <a:chOff x="1828800" y="3733920"/>
            <a:chExt cx="4724280" cy="838080"/>
          </a:xfrm>
        </p:grpSpPr>
        <p:pic>
          <p:nvPicPr>
            <p:cNvPr id="171" name="" descr=""/>
            <p:cNvPicPr/>
            <p:nvPr/>
          </p:nvPicPr>
          <p:blipFill>
            <a:blip r:embed="rId4">
              <a:lum bright="24000"/>
            </a:blip>
            <a:stretch/>
          </p:blipFill>
          <p:spPr>
            <a:xfrm>
              <a:off x="1828800" y="3733920"/>
              <a:ext cx="4724280" cy="838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72" name=""/>
            <p:cNvSpPr/>
            <p:nvPr/>
          </p:nvSpPr>
          <p:spPr>
            <a:xfrm>
              <a:off x="2057400" y="3886200"/>
              <a:ext cx="29718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b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小  知  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828800" y="4952880"/>
            <a:ext cx="4724280" cy="838440"/>
            <a:chOff x="1828800" y="4952880"/>
            <a:chExt cx="4724280" cy="838440"/>
          </a:xfrm>
        </p:grpSpPr>
        <p:pic>
          <p:nvPicPr>
            <p:cNvPr id="174" name="" descr=""/>
            <p:cNvPicPr/>
            <p:nvPr/>
          </p:nvPicPr>
          <p:blipFill>
            <a:blip r:embed="rId5">
              <a:lum bright="24000"/>
            </a:blip>
            <a:stretch/>
          </p:blipFill>
          <p:spPr>
            <a:xfrm>
              <a:off x="1828800" y="4952880"/>
              <a:ext cx="47242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057400" y="5105520"/>
              <a:ext cx="426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b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公式的推导与应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358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467800" y="45720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四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半圆的周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89680" y="299412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=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28960" y="2421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9360" y="1773360"/>
            <a:ext cx="278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·14×6÷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+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=18·84÷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+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=9·4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+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=15·4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435640" y="1554120"/>
            <a:ext cx="2743200" cy="2742840"/>
            <a:chOff x="5435640" y="1554120"/>
            <a:chExt cx="2743200" cy="2742840"/>
          </a:xfrm>
        </p:grpSpPr>
        <p:sp>
          <p:nvSpPr>
            <p:cNvPr id="406" name=""/>
            <p:cNvSpPr/>
            <p:nvPr/>
          </p:nvSpPr>
          <p:spPr>
            <a:xfrm>
              <a:off x="5435640" y="1554120"/>
              <a:ext cx="274284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87"/>
                  </a:moveTo>
                  <a:arcTo wR="10800" hR="10800" stAng="10772302" swAng="108514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87"/>
                  </a:moveTo>
                  <a:arcTo wR="10800" hR="10800" stAng="10772302" swAng="10851487"/>
                </a:path>
              </a:pathLst>
            </a:custGeom>
            <a:gradFill rotWithShape="0">
              <a:gsLst>
                <a:gs pos="0">
                  <a:srgbClr val="ffffff">
                    <a:alpha val="47058"/>
                  </a:srgbClr>
                </a:gs>
                <a:gs pos="100000">
                  <a:srgbClr val="fefefe">
                    <a:alpha val="10196"/>
                  </a:srgbClr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43560" y="292284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435640" y="1557360"/>
            <a:ext cx="274284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39"/>
                </a:moveTo>
                <a:arcTo wR="10800" hR="10800" stAng="-10780489" swAng="10804278"/>
                <a:lnTo>
                  <a:pt x="10800" y="10800"/>
                </a:lnTo>
                <a:close/>
              </a:path>
              <a:path fill="none" w="21600" h="21600">
                <a:moveTo>
                  <a:pt x="0" y="10739"/>
                </a:moveTo>
                <a:arcTo wR="10800" hR="10800" stAng="-10780489" swAng="10804278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435640" y="2922120"/>
            <a:ext cx="27432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61160" y="2587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evt="end">
                                        <p:tn val="840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1" dur="1" fill="hold"/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867280" y="1268280"/>
            <a:ext cx="27428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87"/>
                </a:moveTo>
                <a:arcTo wR="10800" hR="10800" stAng="10772302" swAng="10851487"/>
                <a:lnTo>
                  <a:pt x="10800" y="10800"/>
                </a:lnTo>
                <a:close/>
              </a:path>
              <a:path fill="none" w="21600" h="21600">
                <a:moveTo>
                  <a:pt x="0" y="10887"/>
                </a:moveTo>
                <a:arcTo wR="10800" hR="10800" stAng="10772302" swAng="10851487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404640"/>
            <a:ext cx="84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如图所示求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两条小路的长度（单位：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米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1268280"/>
            <a:ext cx="27428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87"/>
                </a:moveTo>
                <a:arcTo wR="10800" hR="10800" stAng="10772302" swAng="10851487"/>
                <a:lnTo>
                  <a:pt x="10800" y="10800"/>
                </a:lnTo>
                <a:close/>
              </a:path>
              <a:path fill="none" w="21600" h="21600">
                <a:moveTo>
                  <a:pt x="0" y="10887"/>
                </a:moveTo>
                <a:arcTo wR="10800" hR="10800" stAng="10772302" swAng="10851487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2565360"/>
            <a:ext cx="273708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56360" y="836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27640" y="2637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黑体"/>
                <a:ea typeface="黑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2708280"/>
            <a:ext cx="0" cy="30492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6000" y="2790720"/>
            <a:ext cx="0" cy="30492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851080" y="1868760"/>
            <a:ext cx="2756520" cy="1484640"/>
            <a:chOff x="5851080" y="1868760"/>
            <a:chExt cx="2756520" cy="1484640"/>
          </a:xfrm>
        </p:grpSpPr>
        <p:sp>
          <p:nvSpPr>
            <p:cNvPr id="420" name=""/>
            <p:cNvSpPr/>
            <p:nvPr/>
          </p:nvSpPr>
          <p:spPr>
            <a:xfrm>
              <a:off x="7236000" y="1868760"/>
              <a:ext cx="1371600" cy="141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1155"/>
                  </a:moveTo>
                  <a:arcTo wR="10800" hR="10800" stAng="113091" swAng="106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1155"/>
                  </a:moveTo>
                  <a:arcTo wR="10800" hR="10800" stAng="113091" swAng="10694757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0851600">
              <a:off x="5861520" y="1926720"/>
              <a:ext cx="1371600" cy="141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1155"/>
                  </a:moveTo>
                  <a:arcTo wR="10800" hR="10800" stAng="113091" swAng="106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1155"/>
                  </a:moveTo>
                  <a:arcTo wR="10800" hR="10800" stAng="113091" swAng="10694757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04000" y="3006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867280" y="2997360"/>
              <a:ext cx="43344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39640" y="260280"/>
            <a:ext cx="863640" cy="2520720"/>
            <a:chOff x="539640" y="260280"/>
            <a:chExt cx="863640" cy="2520720"/>
          </a:xfrm>
        </p:grpSpPr>
        <p:grpSp>
          <p:nvGrpSpPr>
            <p:cNvPr id="425" name=""/>
            <p:cNvGrpSpPr/>
            <p:nvPr/>
          </p:nvGrpSpPr>
          <p:grpSpPr>
            <a:xfrm>
              <a:off x="539640" y="1345680"/>
              <a:ext cx="863280" cy="1435320"/>
              <a:chOff x="539640" y="1345680"/>
              <a:chExt cx="863280" cy="1435320"/>
            </a:xfrm>
          </p:grpSpPr>
          <p:sp>
            <p:nvSpPr>
              <p:cNvPr id="426" name=""/>
              <p:cNvSpPr/>
              <p:nvPr/>
            </p:nvSpPr>
            <p:spPr>
              <a:xfrm>
                <a:off x="744840" y="1345680"/>
                <a:ext cx="452880" cy="20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9640" y="1482120"/>
                <a:ext cx="302040" cy="1230480"/>
              </a:xfrm>
              <a:custGeom>
                <a:avLst/>
                <a:gdLst/>
                <a:ahLst/>
                <a:rect l="l" t="t" r="r" b="b"/>
                <a:pathLst>
                  <a:path w="224" h="864">
                    <a:moveTo>
                      <a:pt x="152" y="0"/>
                    </a:moveTo>
                    <a:cubicBezTo>
                      <a:pt x="188" y="64"/>
                      <a:pt x="224" y="128"/>
                      <a:pt x="200" y="192"/>
                    </a:cubicBezTo>
                    <a:cubicBezTo>
                      <a:pt x="176" y="256"/>
                      <a:pt x="16" y="272"/>
                      <a:pt x="8" y="384"/>
                    </a:cubicBezTo>
                    <a:cubicBezTo>
                      <a:pt x="0" y="496"/>
                      <a:pt x="76" y="680"/>
                      <a:pt x="152" y="8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100880" y="1482120"/>
                <a:ext cx="302040" cy="1230480"/>
              </a:xfrm>
              <a:custGeom>
                <a:avLst/>
                <a:gdLst/>
                <a:ahLst/>
                <a:rect l="l" t="t" r="r" b="b"/>
                <a:pathLst>
                  <a:path w="224" h="864">
                    <a:moveTo>
                      <a:pt x="72" y="0"/>
                    </a:moveTo>
                    <a:cubicBezTo>
                      <a:pt x="36" y="64"/>
                      <a:pt x="0" y="128"/>
                      <a:pt x="24" y="192"/>
                    </a:cubicBezTo>
                    <a:cubicBezTo>
                      <a:pt x="48" y="256"/>
                      <a:pt x="208" y="272"/>
                      <a:pt x="216" y="384"/>
                    </a:cubicBezTo>
                    <a:cubicBezTo>
                      <a:pt x="224" y="496"/>
                      <a:pt x="148" y="680"/>
                      <a:pt x="72" y="8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4840" y="2644560"/>
                <a:ext cx="452880" cy="1364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0440" y="2165760"/>
                <a:ext cx="841320" cy="546480"/>
              </a:xfrm>
              <a:custGeom>
                <a:avLst/>
                <a:gdLst>
                  <a:gd name="textAreaLeft" fmla="*/ 176040 w 841320"/>
                  <a:gd name="textAreaRight" fmla="*/ 665280 w 841320"/>
                  <a:gd name="textAreaTop" fmla="*/ 114120 h 546480"/>
                  <a:gd name="textAreaBottom" fmla="*/ 432360 h 54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615" y="21600"/>
                    </a:lnTo>
                    <a:lnTo>
                      <a:pt x="4985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0440" y="2029320"/>
                <a:ext cx="841320" cy="136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2" name="" descr=""/>
            <p:cNvPicPr/>
            <p:nvPr/>
          </p:nvPicPr>
          <p:blipFill>
            <a:blip r:embed="rId4"/>
            <a:stretch/>
          </p:blipFill>
          <p:spPr>
            <a:xfrm>
              <a:off x="684000" y="532080"/>
              <a:ext cx="47628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826920" y="260280"/>
              <a:ext cx="576360" cy="12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"/>
          <p:cNvSpPr/>
          <p:nvPr/>
        </p:nvSpPr>
        <p:spPr>
          <a:xfrm>
            <a:off x="1765440" y="1342080"/>
            <a:ext cx="349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×3.14×50÷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6.28×50÷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314÷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157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3877200"/>
            <a:ext cx="43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14×50÷2 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157÷2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78.5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157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86760" y="60202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两条小路一样长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851080" y="1859040"/>
            <a:ext cx="2754720" cy="1482480"/>
            <a:chOff x="5851080" y="1859040"/>
            <a:chExt cx="2754720" cy="1482480"/>
          </a:xfrm>
        </p:grpSpPr>
        <p:sp>
          <p:nvSpPr>
            <p:cNvPr id="438" name=""/>
            <p:cNvSpPr/>
            <p:nvPr/>
          </p:nvSpPr>
          <p:spPr>
            <a:xfrm>
              <a:off x="7234200" y="1859040"/>
              <a:ext cx="1371600" cy="141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1155"/>
                  </a:moveTo>
                  <a:arcTo wR="10800" hR="10800" stAng="113091" swAng="106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1155"/>
                  </a:moveTo>
                  <a:arcTo wR="10800" hR="10800" stAng="113091" swAng="1069475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0851600">
              <a:off x="5861520" y="1915560"/>
              <a:ext cx="1371600" cy="141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1155"/>
                  </a:moveTo>
                  <a:arcTo wR="10800" hR="10800" stAng="113091" swAng="10694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1155"/>
                  </a:moveTo>
                  <a:arcTo wR="10800" hR="10800" stAng="113091" swAng="10694757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157800" y="1987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5867640" y="1204560"/>
            <a:ext cx="27428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87"/>
                </a:moveTo>
                <a:arcTo wR="10800" hR="10800" stAng="10772302" swAng="10851487"/>
                <a:lnTo>
                  <a:pt x="10800" y="10800"/>
                </a:lnTo>
                <a:close/>
              </a:path>
              <a:path fill="none" w="21600" h="21600">
                <a:moveTo>
                  <a:pt x="0" y="10887"/>
                </a:moveTo>
                <a:arcTo wR="10800" hR="10800" stAng="10772302" swAng="10851487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74200" y="3934440"/>
            <a:ext cx="34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×3.14×50÷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6.28×50÷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314÷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157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7" name="chimes.wav"/>
      </p:stSnd>
    </p:sndAc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7"/>
                                      </p:cond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6" dur="1" fill="hold">
                                    <p:stCondLst>
                                      <p:cond evt="end">
                                        <p:tn val="883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evt="onNext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5" dur="1" fill="hold"/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-612720" y="-1300320"/>
            <a:ext cx="11430000" cy="81583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26920" y="3933720"/>
            <a:ext cx="2484720" cy="2303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40360" y="3789360"/>
            <a:ext cx="2809800" cy="25909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98880" y="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到底谁跑得路程长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9640" y="76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正方形的周长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12320" y="126828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圆的周长边长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68040" y="7650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边长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×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28520" y="126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24000" y="2282760"/>
            <a:ext cx="6180840" cy="642600"/>
            <a:chOff x="324000" y="2282760"/>
            <a:chExt cx="6180840" cy="642600"/>
          </a:xfrm>
        </p:grpSpPr>
        <p:sp>
          <p:nvSpPr>
            <p:cNvPr id="453" name=""/>
            <p:cNvSpPr/>
            <p:nvPr/>
          </p:nvSpPr>
          <p:spPr>
            <a:xfrm>
              <a:off x="324000" y="2282760"/>
              <a:ext cx="48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围成圆的曲线的长叫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26840" y="22827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圆的周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04920" y="0"/>
            <a:ext cx="225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情景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920" y="4941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84840" y="6093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19640" y="47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80000" y="5084640"/>
            <a:ext cx="1297080" cy="5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45560" y="5373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067280" y="3284640"/>
            <a:ext cx="79380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rcRect l="51750" t="0" r="0" b="0"/>
          <a:stretch/>
        </p:blipFill>
        <p:spPr>
          <a:xfrm>
            <a:off x="395280" y="3284640"/>
            <a:ext cx="700200" cy="792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3492360" y="765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0×4 =20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米）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1268280"/>
            <a:ext cx="28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×3·14×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=314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米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558-45A5-4595-94AC-EE23F5F423E1}" type="slidenum">
              <a:t>22</a:t>
            </a:fld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Motion origin="layout" path="M 0.0073 0.04174 L 0.27934 0.04174 L 0.27934 0.37816 L 0.0073 0.37816 L 0.0073 0.04174 Z">
                                      <p:cBhvr>
                                        <p:cTn id="931" dur="3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Motion origin="layout" path="M 0.11962 0.00904 C 0.20434 0.00904 0.27344 0.0939 0.27344 0.19847 C 0.27344 0.3028 0.20434 0.38836 0.11962 0.38836 C 0.03473 0.38836 -0.03385 0.3028 -0.03385 0.19847 C -0.03385 0.0939 0.03473 0.00904 0.11962 0.00904 Z">
                                      <p:cBhvr>
                                        <p:cTn id="936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752480" y="4809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几种求周长的方法，哪种方法最简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6400" y="40464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比较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1476000" y="42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3" action="ppaction://hlinksldjump"/>
          </p:cNvPr>
          <p:cNvSpPr/>
          <p:nvPr/>
        </p:nvSpPr>
        <p:spPr>
          <a:xfrm>
            <a:off x="4428720" y="42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4" action="ppaction://hlinksldjump"/>
          </p:cNvPr>
          <p:cNvSpPr/>
          <p:nvPr/>
        </p:nvSpPr>
        <p:spPr>
          <a:xfrm>
            <a:off x="6872040" y="4149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量出直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利用公式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013360"/>
            <a:ext cx="1439640" cy="119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50920" y="1619280"/>
          <a:ext cx="2808360" cy="22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1619280"/>
                    <a:ext cx="280836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>
            <a:hlinkClick r:id="rId9" action="ppaction://hlinksldjump"/>
          </p:cNvPr>
          <p:cNvSpPr/>
          <p:nvPr/>
        </p:nvSpPr>
        <p:spPr>
          <a:xfrm>
            <a:off x="1979640" y="508464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结：求周长的方法中量出直径，利用公式计算最简单。而且适合求任意圆形的周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732720" y="2276640"/>
            <a:ext cx="2209320" cy="1263600"/>
            <a:chOff x="6732720" y="2276640"/>
            <a:chExt cx="2209320" cy="1263600"/>
          </a:xfrm>
        </p:grpSpPr>
        <p:grpSp>
          <p:nvGrpSpPr>
            <p:cNvPr id="475" name=""/>
            <p:cNvGrpSpPr/>
            <p:nvPr/>
          </p:nvGrpSpPr>
          <p:grpSpPr>
            <a:xfrm>
              <a:off x="6751440" y="2292480"/>
              <a:ext cx="2190600" cy="1247760"/>
              <a:chOff x="6751440" y="2292480"/>
              <a:chExt cx="2190600" cy="124776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7178040" y="2676600"/>
                <a:ext cx="1152360" cy="86364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8440" y="2662560"/>
                <a:ext cx="1152720" cy="86364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51440" y="2292480"/>
                <a:ext cx="2190600" cy="484200"/>
              </a:xfrm>
              <a:prstGeom prst="ellipse">
                <a:avLst/>
              </a:prstGeom>
              <a:solidFill>
                <a:srgbClr val="ff9900"/>
              </a:solidFill>
              <a:ln w="3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09960" y="3310200"/>
                <a:ext cx="79236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6732720" y="2276640"/>
              <a:ext cx="2193840" cy="5191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13400" y="24613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·9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50000" y="2532240"/>
              <a:ext cx="2160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924360" y="28465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0"/>
          <a:stretch/>
        </p:blipFill>
        <p:spPr>
          <a:xfrm>
            <a:off x="3276720" y="1560600"/>
            <a:ext cx="2950920" cy="2341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11" name="chimes.wav"/>
      </p:stSnd>
    </p:sndAc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68360" y="260280"/>
            <a:ext cx="82184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27280" y="4149720"/>
            <a:ext cx="1077840" cy="509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5013360"/>
            <a:ext cx="55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圆的周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圆的直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圆周率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C=∏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08720" y="1635120"/>
            <a:ext cx="1440" cy="522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08360" y="1197000"/>
            <a:ext cx="17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圆的周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4000" y="1700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圆的周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围成圆的曲线的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5640" y="407052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95280" y="2276640"/>
          <a:ext cx="4753080" cy="1728720"/>
        </p:xfrm>
        <a:graphic>
          <a:graphicData uri="http://schemas.openxmlformats.org/drawingml/2006/table">
            <a:tbl>
              <a:tblPr/>
              <a:tblGrid>
                <a:gridCol w="1547640"/>
                <a:gridCol w="1260720"/>
                <a:gridCol w="1224000"/>
                <a:gridCol w="720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1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厘米</a:t>
                      </a:r>
                      <a:r>
                        <a:rPr b="1" lang="zh-CN" sz="1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1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厘米</a:t>
                      </a:r>
                      <a:r>
                        <a:rPr b="1" lang="zh-CN" sz="1800" spc="-1" strike="noStrike">
                          <a:solidFill>
                            <a:srgbClr val="cc0099"/>
                          </a:solidFill>
                          <a:latin typeface="Comic Sans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比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元硬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d=2</a:t>
                      </a:r>
                      <a:r>
                        <a:rPr b="1" lang="zh-CN" sz="18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厘米的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Comic Sans MS"/>
                          <a:ea typeface="幼圆"/>
                        </a:rPr>
                        <a:t>d=3</a:t>
                      </a: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厘米</a:t>
                      </a: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Comic Sans MS"/>
                          <a:ea typeface="幼圆"/>
                        </a:rPr>
                        <a:t>的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5867280" y="55832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0000" y="1916280"/>
            <a:ext cx="6553440" cy="4553640"/>
            <a:chOff x="5580000" y="1916280"/>
            <a:chExt cx="6553440" cy="4553640"/>
          </a:xfrm>
        </p:grpSpPr>
        <p:sp>
          <p:nvSpPr>
            <p:cNvPr id="495" name=""/>
            <p:cNvSpPr/>
            <p:nvPr/>
          </p:nvSpPr>
          <p:spPr>
            <a:xfrm>
              <a:off x="5651640" y="1916280"/>
              <a:ext cx="29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一张圆桌面的直径是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。这张圆桌面的周长是多少米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19640" y="3848400"/>
              <a:ext cx="302436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.14×0.9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= 2.9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.9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米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80000" y="5300640"/>
              <a:ext cx="6553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答：这张圆桌面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周长约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00360" y="692280"/>
              <a:ext cx="7378560" cy="36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 txBox="1"/>
          <p:nvPr/>
        </p:nvSpPr>
        <p:spPr>
          <a:xfrm>
            <a:off x="250920" y="907920"/>
            <a:ext cx="7920000" cy="3600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Class is over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468360" y="-38736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Comic Sans MS"/>
              </a:rPr>
              <a:t>复习圆的有关知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4360" y="2637000"/>
            <a:ext cx="2562840" cy="2304360"/>
            <a:chOff x="684360" y="2637000"/>
            <a:chExt cx="2562840" cy="2304360"/>
          </a:xfrm>
        </p:grpSpPr>
        <p:sp>
          <p:nvSpPr>
            <p:cNvPr id="178" name=""/>
            <p:cNvSpPr/>
            <p:nvPr/>
          </p:nvSpPr>
          <p:spPr>
            <a:xfrm>
              <a:off x="2846880" y="313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84360" y="2637000"/>
              <a:ext cx="2190600" cy="2304360"/>
              <a:chOff x="684360" y="2637000"/>
              <a:chExt cx="2190600" cy="2304360"/>
            </a:xfrm>
          </p:grpSpPr>
          <p:sp>
            <p:nvSpPr>
              <p:cNvPr id="180" name=""/>
              <p:cNvSpPr/>
              <p:nvPr/>
            </p:nvSpPr>
            <p:spPr>
              <a:xfrm>
                <a:off x="684360" y="2637000"/>
                <a:ext cx="2190600" cy="21841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73080" y="299736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731960" y="3449160"/>
                <a:ext cx="10666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0040" y="4481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6160" y="2637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49440" y="357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5003640" y="543888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4575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如图所示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(1)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点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O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是什么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点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是圆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(2)A, B,C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三点是在圆上、圆内还是圆外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，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B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，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三点在圆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(3)OA,BC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分别是圆的什么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?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一般用什么字母表示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?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他们之间有什么关系</a:t>
            </a:r>
            <a:r>
              <a:rPr b="0" lang="zh-CN" sz="2400" spc="-1" strike="noStrike">
                <a:solidFill>
                  <a:srgbClr val="1f4081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OA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，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BC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分别是圆的半径和直径。一般用</a:t>
            </a:r>
            <a:r>
              <a:rPr b="1" lang="zh-CN" sz="24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和</a:t>
            </a:r>
            <a:r>
              <a:rPr b="1" lang="zh-CN" sz="2400" spc="-1" strike="noStrike">
                <a:solidFill>
                  <a:srgbClr val="a50021"/>
                </a:solidFill>
                <a:latin typeface="Comic Sans MS"/>
              </a:rPr>
              <a:t>d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表示，</a:t>
            </a:r>
            <a:r>
              <a:rPr b="1" lang="zh-CN" sz="2400" spc="-1" strike="noStrike">
                <a:solidFill>
                  <a:srgbClr val="a50021"/>
                </a:solidFill>
                <a:latin typeface="Comic Sans MS"/>
              </a:rPr>
              <a:t>d=2r</a:t>
            </a:r>
            <a:r>
              <a:rPr b="0" lang="zh-CN" sz="2400" spc="-1" strike="noStrike">
                <a:solidFill>
                  <a:srgbClr val="a50021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304920"/>
            <a:ext cx="2666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304920"/>
            <a:ext cx="1828800" cy="1828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685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长方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914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正方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26463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们都是（        ）图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604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们都是由（        ）围成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9840" y="351936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什么叫正方形的周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3880" y="3179880"/>
            <a:ext cx="35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什么叫长方形的周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038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形的周长和什么有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572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的周长和什么有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2147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3124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围成长方形的线段的总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3505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围成正方形的线段的总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04920"/>
            <a:ext cx="1981080" cy="1981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5012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有周长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5257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天我们就来探索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圆的周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04920"/>
            <a:ext cx="2666880" cy="1447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304920"/>
            <a:ext cx="1828800" cy="18288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线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685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什么叫做圆的周长，圆的周长和什么有关系？如何计算圆的周长等这些数学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038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（长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宽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边长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×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怎样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圆的周长的含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是由（        ）线围成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143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是平面上的一种（        ）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38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圆的周长是一条（      ）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80880"/>
            <a:ext cx="2971800" cy="2971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76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叫做圆的周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962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围成圆的曲线的长叫做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圆的周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869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曲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用直尺来量出长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1143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1690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380880"/>
            <a:ext cx="2971800" cy="2971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380880"/>
            <a:ext cx="2971800" cy="2971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612720" y="-1300320"/>
            <a:ext cx="11430000" cy="8158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26920" y="3789360"/>
            <a:ext cx="2484720" cy="2303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907920"/>
            <a:ext cx="4832280" cy="642600"/>
            <a:chOff x="611280" y="907920"/>
            <a:chExt cx="4832280" cy="642600"/>
          </a:xfrm>
        </p:grpSpPr>
        <p:sp>
          <p:nvSpPr>
            <p:cNvPr id="231" name=""/>
            <p:cNvSpPr/>
            <p:nvPr/>
          </p:nvSpPr>
          <p:spPr>
            <a:xfrm>
              <a:off x="611280" y="90792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正方形的周长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1800" y="907920"/>
              <a:ext cx="16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边长</a:t>
              </a:r>
              <a:r>
                <a:rPr b="0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×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01080" y="1484280"/>
            <a:ext cx="3353400" cy="642600"/>
            <a:chOff x="901080" y="1484280"/>
            <a:chExt cx="3353400" cy="642600"/>
          </a:xfrm>
        </p:grpSpPr>
        <p:sp>
          <p:nvSpPr>
            <p:cNvPr id="234" name=""/>
            <p:cNvSpPr/>
            <p:nvPr/>
          </p:nvSpPr>
          <p:spPr>
            <a:xfrm>
              <a:off x="901080" y="1484280"/>
              <a:ext cx="16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圆的周长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9440" y="14842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0" y="0"/>
            <a:ext cx="6327360" cy="1434600"/>
            <a:chOff x="0" y="0"/>
            <a:chExt cx="6327360" cy="1434600"/>
          </a:xfrm>
        </p:grpSpPr>
        <p:sp>
          <p:nvSpPr>
            <p:cNvPr id="237" name=""/>
            <p:cNvSpPr/>
            <p:nvPr/>
          </p:nvSpPr>
          <p:spPr>
            <a:xfrm>
              <a:off x="2793960" y="0"/>
              <a:ext cx="353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到底谁跑得路程长呢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2251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情景</a:t>
              </a:r>
              <a:r>
                <a:rPr b="0" lang="zh-CN" sz="4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</a:t>
              </a:r>
              <a:r>
                <a:rPr b="0" lang="zh-CN" sz="4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05960" y="5805360"/>
            <a:ext cx="338040" cy="360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920" y="4941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4840" y="6093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356000" y="3500280"/>
            <a:ext cx="2809800" cy="2590920"/>
            <a:chOff x="4356000" y="3500280"/>
            <a:chExt cx="2809800" cy="2590920"/>
          </a:xfrm>
        </p:grpSpPr>
        <p:sp>
          <p:nvSpPr>
            <p:cNvPr id="243" name=""/>
            <p:cNvSpPr/>
            <p:nvPr/>
          </p:nvSpPr>
          <p:spPr>
            <a:xfrm>
              <a:off x="4356000" y="3500280"/>
              <a:ext cx="2809800" cy="25909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92360" y="4363920"/>
              <a:ext cx="56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0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24360" y="4724280"/>
              <a:ext cx="129708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94640" y="50115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0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5292720" y="2349360"/>
            <a:ext cx="793800" cy="1008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rcRect l="51750" t="0" r="0" b="0"/>
          <a:stretch/>
        </p:blipFill>
        <p:spPr>
          <a:xfrm>
            <a:off x="395280" y="3213000"/>
            <a:ext cx="700200" cy="792360"/>
          </a:xfrm>
          <a:prstGeom prst="rect">
            <a:avLst/>
          </a:prstGeom>
          <a:ln w="0">
            <a:noFill/>
          </a:ln>
        </p:spPr>
      </p:pic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388360" y="587700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7885080" y="5877000"/>
            <a:ext cx="324000" cy="288720"/>
          </a:xfrm>
          <a:custGeom>
            <a:avLst/>
            <a:gdLst>
              <a:gd name="textAreaLeft" fmla="*/ 38880 w 324000"/>
              <a:gd name="textAreaRight" fmla="*/ 285120 w 324000"/>
              <a:gd name="textAreaTop" fmla="*/ 38880 h 288720"/>
              <a:gd name="textAreaBottom" fmla="*/ 249840 h 288720"/>
            </a:gdLst>
            <a:ahLst/>
            <a:rect l="textAreaLeft" t="textAreaTop" r="textAreaRight" b="textAreaBottom"/>
            <a:pathLst>
              <a:path w="24236" h="21600">
                <a:moveTo>
                  <a:pt x="0" y="0"/>
                </a:moveTo>
                <a:lnTo>
                  <a:pt x="24236" y="0"/>
                </a:lnTo>
                <a:lnTo>
                  <a:pt x="24236" y="21600"/>
                </a:lnTo>
                <a:lnTo>
                  <a:pt x="0" y="21600"/>
                </a:lnTo>
                <a:close/>
              </a:path>
              <a:path fill="lightenLess" w="24236" h="21600">
                <a:moveTo>
                  <a:pt x="0" y="0"/>
                </a:moveTo>
                <a:lnTo>
                  <a:pt x="24236" y="0"/>
                </a:lnTo>
                <a:lnTo>
                  <a:pt x="21308" y="2928"/>
                </a:lnTo>
                <a:lnTo>
                  <a:pt x="2928" y="2928"/>
                </a:lnTo>
                <a:close/>
              </a:path>
              <a:path fill="darken" w="24236" h="21600">
                <a:moveTo>
                  <a:pt x="24236" y="0"/>
                </a:moveTo>
                <a:lnTo>
                  <a:pt x="24236" y="21600"/>
                </a:lnTo>
                <a:lnTo>
                  <a:pt x="21308" y="18672"/>
                </a:lnTo>
                <a:lnTo>
                  <a:pt x="21308" y="2928"/>
                </a:lnTo>
                <a:close/>
              </a:path>
              <a:path fill="darkenLess" w="24236" h="21600">
                <a:moveTo>
                  <a:pt x="24236" y="21600"/>
                </a:moveTo>
                <a:lnTo>
                  <a:pt x="0" y="21600"/>
                </a:lnTo>
                <a:lnTo>
                  <a:pt x="2928" y="18672"/>
                </a:lnTo>
                <a:lnTo>
                  <a:pt x="21308" y="18672"/>
                </a:lnTo>
                <a:close/>
              </a:path>
              <a:path fill="lighten" w="24236" h="21600">
                <a:moveTo>
                  <a:pt x="0" y="21600"/>
                </a:moveTo>
                <a:lnTo>
                  <a:pt x="0" y="0"/>
                </a:lnTo>
                <a:lnTo>
                  <a:pt x="2928" y="2928"/>
                </a:lnTo>
                <a:lnTo>
                  <a:pt x="2928" y="18672"/>
                </a:lnTo>
                <a:close/>
              </a:path>
              <a:path fill="darken" w="24236" h="21600">
                <a:moveTo>
                  <a:pt x="6251" y="10800"/>
                </a:moveTo>
                <a:lnTo>
                  <a:pt x="17986" y="4932"/>
                </a:lnTo>
                <a:lnTo>
                  <a:pt x="17986" y="166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Motion origin="layout" path="M 0.00903 0.02639 L 0.28108 0.02639 L 0.28108 0.36296 L 0.00903 0.36296 L 0.00903 0.02639 Z">
                                      <p:cBhvr>
                                        <p:cTn id="365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Motion origin="layout" path="M 0.00347 0.08472 C 0.08646 0.08403 0.15347 0.17176 0.15313 0.2794 C 0.15365 0.38611 0.08611 0.47408 0.00347 0.47454 C -0.0783 0.47384 -0.14548 0.38588 -0.14531 0.27847 C -0.14583 0.17176 -0.07934 0.08426 0.00347 0.08472 Z">
                                      <p:cBhvr>
                                        <p:cTn id="370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47640" y="1197000"/>
            <a:ext cx="1440000" cy="792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3640" y="1197000"/>
            <a:ext cx="1368360" cy="647640"/>
          </a:xfrm>
          <a:prstGeom prst="rect">
            <a:avLst/>
          </a:pr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怎样用直尺测量圆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周长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22800" y="126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993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9216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9880" y="0"/>
            <a:ext cx="178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情景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5877000"/>
            <a:ext cx="324000" cy="330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4365720"/>
            <a:ext cx="1200240" cy="99360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rId6" action="ppaction://hlinksldjump"/>
          </p:cNvPr>
          <p:cNvSpPr/>
          <p:nvPr/>
        </p:nvSpPr>
        <p:spPr>
          <a:xfrm>
            <a:off x="8099280" y="5950080"/>
            <a:ext cx="217800" cy="214200"/>
          </a:xfrm>
          <a:custGeom>
            <a:avLst/>
            <a:gdLst>
              <a:gd name="textAreaLeft" fmla="*/ 13680 w 217800"/>
              <a:gd name="textAreaRight" fmla="*/ 204120 w 21780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1962" h="21600">
                <a:moveTo>
                  <a:pt x="0" y="0"/>
                </a:moveTo>
                <a:lnTo>
                  <a:pt x="21962" y="0"/>
                </a:lnTo>
                <a:lnTo>
                  <a:pt x="21962" y="21600"/>
                </a:lnTo>
                <a:lnTo>
                  <a:pt x="0" y="21600"/>
                </a:lnTo>
                <a:close/>
              </a:path>
              <a:path fill="lightenLess" w="21962" h="21600">
                <a:moveTo>
                  <a:pt x="0" y="0"/>
                </a:moveTo>
                <a:lnTo>
                  <a:pt x="21962" y="0"/>
                </a:lnTo>
                <a:lnTo>
                  <a:pt x="20562" y="1400"/>
                </a:lnTo>
                <a:lnTo>
                  <a:pt x="1400" y="1400"/>
                </a:lnTo>
                <a:close/>
              </a:path>
              <a:path fill="darken" w="21962" h="21600">
                <a:moveTo>
                  <a:pt x="21962" y="0"/>
                </a:moveTo>
                <a:lnTo>
                  <a:pt x="21962" y="21600"/>
                </a:lnTo>
                <a:lnTo>
                  <a:pt x="20562" y="20200"/>
                </a:lnTo>
                <a:lnTo>
                  <a:pt x="20562" y="1400"/>
                </a:lnTo>
                <a:close/>
              </a:path>
              <a:path fill="darkenLess" w="21962" h="21600">
                <a:moveTo>
                  <a:pt x="21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62" y="20200"/>
                </a:lnTo>
                <a:close/>
              </a:path>
              <a:path fill="lighten" w="21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62" h="21600">
                <a:moveTo>
                  <a:pt x="3975" y="3794"/>
                </a:moveTo>
                <a:lnTo>
                  <a:pt x="17988" y="10800"/>
                </a:lnTo>
                <a:lnTo>
                  <a:pt x="3975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7738920" y="5950080"/>
            <a:ext cx="217800" cy="215640"/>
          </a:xfrm>
          <a:custGeom>
            <a:avLst/>
            <a:gdLst>
              <a:gd name="textAreaLeft" fmla="*/ 13680 w 217800"/>
              <a:gd name="textAreaRight" fmla="*/ 204120 w 2178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816" h="21600">
                <a:moveTo>
                  <a:pt x="0" y="0"/>
                </a:moveTo>
                <a:lnTo>
                  <a:pt x="21816" y="0"/>
                </a:lnTo>
                <a:lnTo>
                  <a:pt x="21816" y="21600"/>
                </a:lnTo>
                <a:lnTo>
                  <a:pt x="0" y="21600"/>
                </a:lnTo>
                <a:close/>
              </a:path>
              <a:path fill="lightenLess" w="21816" h="21600">
                <a:moveTo>
                  <a:pt x="0" y="0"/>
                </a:moveTo>
                <a:lnTo>
                  <a:pt x="21816" y="0"/>
                </a:lnTo>
                <a:lnTo>
                  <a:pt x="20416" y="1400"/>
                </a:lnTo>
                <a:lnTo>
                  <a:pt x="1400" y="1400"/>
                </a:lnTo>
                <a:close/>
              </a:path>
              <a:path fill="darken" w="21816" h="21600">
                <a:moveTo>
                  <a:pt x="21816" y="0"/>
                </a:moveTo>
                <a:lnTo>
                  <a:pt x="21816" y="21600"/>
                </a:lnTo>
                <a:lnTo>
                  <a:pt x="20416" y="20200"/>
                </a:lnTo>
                <a:lnTo>
                  <a:pt x="20416" y="1400"/>
                </a:lnTo>
                <a:close/>
              </a:path>
              <a:path fill="darkenLess" w="21816" h="21600">
                <a:moveTo>
                  <a:pt x="21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6" y="20200"/>
                </a:lnTo>
                <a:close/>
              </a:path>
              <a:path fill="lighten" w="21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6" h="21600">
                <a:moveTo>
                  <a:pt x="3902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484360" y="2492280"/>
          <a:ext cx="3960720" cy="324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2492280"/>
                    <a:ext cx="396072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611280" y="1484280"/>
            <a:ext cx="2209680" cy="825120"/>
          </a:xfrm>
          <a:prstGeom prst="rect">
            <a:avLst/>
          </a:prstGeom>
          <a:gradFill rotWithShape="0">
            <a:gsLst>
              <a:gs pos="0">
                <a:srgbClr val="00b200"/>
              </a:gs>
              <a:gs pos="50000">
                <a:srgbClr val="ffff99"/>
              </a:gs>
              <a:gs pos="100000">
                <a:srgbClr val="00b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a1814"/>
                </a:solidFill>
                <a:latin typeface="Times New Roman"/>
              </a:rPr>
              <a:t>方法一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267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8763120" cy="3809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8600" y="380880"/>
            <a:ext cx="2209680" cy="825120"/>
          </a:xfrm>
          <a:prstGeom prst="rect">
            <a:avLst/>
          </a:prstGeom>
          <a:gradFill rotWithShape="0">
            <a:gsLst>
              <a:gs pos="0">
                <a:srgbClr val="00b200"/>
              </a:gs>
              <a:gs pos="50000">
                <a:srgbClr val="ffff99"/>
              </a:gs>
              <a:gs pos="100000">
                <a:srgbClr val="00b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a1814"/>
                </a:solidFill>
                <a:latin typeface="Times New Roman"/>
              </a:rPr>
              <a:t>方法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404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52480" y="22860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怎样测量下面物体的周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能用绳子去围或在直尺上滚动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188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01080" y="566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384720" cy="2519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6640" y="1341360"/>
            <a:ext cx="36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1000" y="148428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92720" y="450864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647640" cy="504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4076640"/>
            <a:ext cx="68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42920" y="3789360"/>
          <a:ext cx="335304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789360"/>
                    <a:ext cx="3353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791320" y="3789360"/>
          <a:ext cx="335268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789360"/>
                    <a:ext cx="3352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791320" y="1052640"/>
          <a:ext cx="3352680" cy="25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1052640"/>
                    <a:ext cx="33526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07:19:16Z</dcterms:created>
  <dc:creator>00</dc:creator>
  <dc:description/>
  <dc:language>en-US</dc:language>
  <cp:lastModifiedBy>JCDN</cp:lastModifiedBy>
  <dcterms:modified xsi:type="dcterms:W3CDTF">2013-11-18T23:24:09Z</dcterms:modified>
  <cp:revision>176</cp:revision>
  <dc:subject/>
  <dc:title>PowerPoint 演示文稿</dc:title>
</cp:coreProperties>
</file>